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ng" ContentType="image/png"/>
  <Override PartName="/ppt/media/image3.png" ContentType="image/png"/>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53E9-E140-45A2-9098-2072B055CC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E413-F7FC-45D4-B047-48F3A288BE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Eamonn Ke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business environment defined by fierce competition, increased shareholder scrutiny, and proliferating corporate scandals, companies in every industry need able executives who can steer them through the shoals and toward a better future. But with the current pool of senior executives shrinking, and a perceived shortage of junior talent in the pipeline, such executives seem increasingly difficult to find. Even when they have been identified, how best to develop and prepare them for the rigors of an executive-level job is an open—and often perplexing—question. </a:t>
            </a:r>
            <a:br>
              <a:rPr sz="1000"/>
            </a:br>
            <a:br>
              <a:rPr sz="1000"/>
            </a:br>
            <a:r>
              <a:rPr b="0" lang="en-US" sz="1000" spc="-1" strike="noStrike">
                <a:solidFill>
                  <a:srgbClr val="000000"/>
                </a:solidFill>
                <a:latin typeface="Arial"/>
              </a:rPr>
              <a:t>Today the field of executive development stands at a crossroads. The "one size fits all" programs and approaches that once characterized the field have all but disappeared, and are slowly being replaced by more nimble and customized alternatives that reflect the new needs of today's executives. But this new version of executive development is just beginning to take shape, and big questions about its future still loom. GBN’s meeting examined the emerging necessities and opportunities for executive growth and development today—and in the decade a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AIL THIS I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name *your email address *your friend's email address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61DA-2CD3-4B6F-8DA0-343B7FAA20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0B4D-C872-417C-8FA4-69F676227A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99B5-A14E-46AD-9BBF-4B2B899A0A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AEF4-C286-48BA-BC3B-A2C0C06A8C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1CF5-CB5C-4CC6-A8E0-547E187A63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514D-FD16-4143-AADA-7068E42E13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023C-D7BD-454D-8784-726AFC39EF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7562-18C7-4435-838C-96531A2B9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D743-4D5A-4FF6-A762-E6348AB9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373C6-6BA1-4CCD-8AE9-41476CC10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7A0AD-CA65-4437-8BB0-2CFF79BE2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557EC-5194-4AA7-A647-9C7FE8758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0BACA-1299-4902-9F9A-A609BC3B9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AE9CD-0AFB-4C22-B6AF-A3E67583B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E09D6-DDA2-441F-8379-649BF7F8D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31160-FF49-43F5-AB60-CD65804F3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9421F-4E58-4120-9287-E42A25A0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E1B14-D472-46AD-8E89-C70794367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7DA2-9F04-4FA1-AD28-DEF78B95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603CD-193D-4DB9-9C4D-2B9F953FC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131EA-D2DA-40EA-8BB8-692EBE04D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6B7C4-2EF1-4D12-94CE-725E74E99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4A7A5-89E5-4993-A784-8011F0B47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2A0A2-C8A5-4951-9353-876212E1C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E4BD-C916-4356-B658-1AF57C45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E5F9D-AE3B-4F9F-9CC3-31B112E1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94AE-B937-449C-8C66-486C7B13C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E167-4171-4783-88F7-CEDD97302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D0D6-99FF-4EFD-ABEB-EBBD4EAF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16736-8C54-4B51-A193-C542D85A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45FD8-F3BE-4AD1-A458-028168BA9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5271-86CE-4D80-BF5C-62A1B6E36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39E1-DB7E-4ECB-B7BE-9C31E103B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Future of Education</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2009</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 Project - Bahrai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uture of Education</a:t>
            </a:r>
            <a:endParaRPr b="0" lang="en-US" sz="3800" spc="-1" strike="noStrike">
              <a:solidFill>
                <a:srgbClr val="000000"/>
              </a:solidFill>
              <a:latin typeface="Verdana"/>
            </a:endParaRPr>
          </a:p>
        </p:txBody>
      </p:sp>
      <p:sp>
        <p:nvSpPr>
          <p:cNvPr id="115" name="PlaceHolder 2"/>
          <p:cNvSpPr>
            <a:spLocks noGrp="1"/>
          </p:cNvSpPr>
          <p:nvPr>
            <p:ph/>
          </p:nvPr>
        </p:nvSpPr>
        <p:spPr>
          <a:xfrm>
            <a:off x="566640" y="1752480"/>
            <a:ext cx="8196480" cy="4724640"/>
          </a:xfrm>
          <a:prstGeom prst="rect">
            <a:avLst/>
          </a:prstGeom>
          <a:noFill/>
          <a:ln w="0">
            <a:noFill/>
          </a:ln>
        </p:spPr>
        <p:txBody>
          <a:bodyPr anchor="t">
            <a:norm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 Linear mode of instant messaging, hypersurfing through google hits etc</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morizer of facts and principles to that of a researcher, problem-solver, and strategist</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ep your eyes on your own paper” value of independent scholarship will be augmented with learning communities and cooperative workgroups</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g-concept thinking, systemic analysis, and model building will replace less useful memorization of disconnected facts</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arning will morph from today’s textbook-imitative exercises to sophisticated algorithm based models of concept presentation, simulation, correction, and review</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bal database to Global learningbase, indexed with generations of recursive commentary, a kind of Global Talmud</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les of Web 1.0 Reading, Receiving, Researching</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les of Web 2.0 Contributing, Collaborating, Creating </a:t>
            </a: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uture of Education</a:t>
            </a:r>
            <a:endParaRPr b="0" lang="en-US" sz="3800" spc="-1" strike="noStrike">
              <a:solidFill>
                <a:srgbClr val="000000"/>
              </a:solidFill>
              <a:latin typeface="Verdana"/>
            </a:endParaRPr>
          </a:p>
        </p:txBody>
      </p:sp>
      <p:sp>
        <p:nvSpPr>
          <p:cNvPr id="117"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ght but Complex, Challenging, Failure Prone</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nitive Psychology, Ethics, Geopolitics, Behavioral Economics, Environmental Scienc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ruption, Creative Destruction, Dispersio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mohan@sentientconsulting.i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ducation in India</a:t>
            </a:r>
            <a:endParaRPr b="0" lang="en-US" sz="3800" spc="-1" strike="noStrike">
              <a:solidFill>
                <a:srgbClr val="000000"/>
              </a:solidFill>
              <a:latin typeface="Verdana"/>
            </a:endParaRPr>
          </a:p>
        </p:txBody>
      </p:sp>
      <p:sp>
        <p:nvSpPr>
          <p:cNvPr id="95" name=""/>
          <p:cNvSpPr txBox="1"/>
          <p:nvPr/>
        </p:nvSpPr>
        <p:spPr>
          <a:xfrm>
            <a:off x="566280" y="1752480"/>
            <a:ext cx="8001000" cy="4267440"/>
          </a:xfrm>
          <a:prstGeom prst="rect">
            <a:avLst/>
          </a:prstGeom>
          <a:noFill/>
          <a:ln w="0">
            <a:noFill/>
          </a:ln>
        </p:spPr>
        <p:txBody>
          <a:bodyPr anchor="t">
            <a:normAutofit/>
          </a:bodyPr>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of the total primary schools are single teacher schools in India catering to nearly 12% of the total enrolment in primary classes</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erage Pupil Teacher Ratio for All India is 1:42</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T</a:t>
            </a:r>
            <a:r>
              <a:rPr b="0" lang="en-US" sz="1600" spc="-1" strike="noStrike">
                <a:solidFill>
                  <a:srgbClr val="000000"/>
                </a:solidFill>
                <a:latin typeface="Verdana"/>
              </a:rPr>
              <a:t>eacher absence rate ranges from 15% in Maharashtra to 42% in Jharkhand  </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47 out of 100 children enrolled in class I reach class VIII </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e  dropout rate of 52.79 %  </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 million children in the age-group 6-14 years, do not attend school</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6.64 per cent villages of the country do not have facilities of primary schooling</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adequate school infrastructure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availability of teachers in remote rural, hilly and tribal areas</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teacher absenteeism</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rge scale teacher vacancies</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adequate allocation of resources on education</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tangle 8"/>
          <p:cNvSpPr/>
          <p:nvPr/>
        </p:nvSpPr>
        <p:spPr>
          <a:xfrm>
            <a:off x="4267080" y="3886200"/>
            <a:ext cx="45720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ducation in India</a:t>
            </a:r>
            <a:endParaRPr b="0" lang="en-US" sz="3800" spc="-1" strike="noStrike">
              <a:solidFill>
                <a:srgbClr val="000000"/>
              </a:solidFill>
              <a:latin typeface="Verdana"/>
            </a:endParaRPr>
          </a:p>
        </p:txBody>
      </p:sp>
      <p:pic>
        <p:nvPicPr>
          <p:cNvPr id="98" name="Picture 9" descr=""/>
          <p:cNvPicPr/>
          <p:nvPr/>
        </p:nvPicPr>
        <p:blipFill>
          <a:blip r:embed="rId1"/>
          <a:stretch/>
        </p:blipFill>
        <p:spPr>
          <a:xfrm>
            <a:off x="762120" y="2057400"/>
            <a:ext cx="4930560" cy="2870280"/>
          </a:xfrm>
          <a:prstGeom prst="rect">
            <a:avLst/>
          </a:prstGeom>
          <a:ln w="0">
            <a:noFill/>
          </a:ln>
        </p:spPr>
      </p:pic>
      <p:pic>
        <p:nvPicPr>
          <p:cNvPr id="99" name="Picture 11" descr=""/>
          <p:cNvPicPr/>
          <p:nvPr/>
        </p:nvPicPr>
        <p:blipFill>
          <a:blip r:embed="rId2"/>
          <a:stretch/>
        </p:blipFill>
        <p:spPr>
          <a:xfrm>
            <a:off x="3581280" y="1676520"/>
            <a:ext cx="5181840" cy="4419360"/>
          </a:xfrm>
          <a:prstGeom prst="rect">
            <a:avLst/>
          </a:prstGeom>
          <a:ln w="0">
            <a:noFill/>
          </a:ln>
        </p:spPr>
      </p:pic>
      <p:pic>
        <p:nvPicPr>
          <p:cNvPr id="100" name="Picture 12" descr=""/>
          <p:cNvPicPr/>
          <p:nvPr/>
        </p:nvPicPr>
        <p:blipFill>
          <a:blip r:embed="rId3"/>
          <a:stretch/>
        </p:blipFill>
        <p:spPr>
          <a:xfrm>
            <a:off x="838080" y="4724280"/>
            <a:ext cx="711360" cy="152640"/>
          </a:xfrm>
          <a:prstGeom prst="rect">
            <a:avLst/>
          </a:prstGeom>
          <a:ln w="0">
            <a:noFill/>
          </a:ln>
        </p:spPr>
      </p:pic>
      <p:pic>
        <p:nvPicPr>
          <p:cNvPr id="101" name="Picture 8" descr=""/>
          <p:cNvPicPr/>
          <p:nvPr/>
        </p:nvPicPr>
        <p:blipFill>
          <a:blip r:embed="rId4"/>
          <a:stretch/>
        </p:blipFill>
        <p:spPr>
          <a:xfrm>
            <a:off x="617400" y="5029200"/>
            <a:ext cx="28353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ridgeway Group Schools</a:t>
            </a:r>
            <a:endParaRPr b="0" lang="en-US" sz="3800" spc="-1" strike="noStrike">
              <a:solidFill>
                <a:srgbClr val="000000"/>
              </a:solidFill>
              <a:latin typeface="Verdana"/>
            </a:endParaRPr>
          </a:p>
        </p:txBody>
      </p:sp>
      <p:sp>
        <p:nvSpPr>
          <p:cNvPr id="103" name=""/>
          <p:cNvSpPr txBox="1"/>
          <p:nvPr/>
        </p:nvSpPr>
        <p:spPr>
          <a:xfrm>
            <a:off x="566280" y="1752480"/>
            <a:ext cx="8001000" cy="4267440"/>
          </a:xfrm>
          <a:prstGeom prst="rect">
            <a:avLst/>
          </a:prstGeom>
          <a:noFill/>
          <a:ln w="0">
            <a:noFill/>
          </a:ln>
        </p:spPr>
        <p:txBody>
          <a:bodyPr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st school started in 1994 in India</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day 6 schools (2 in India and 4 in Saudi Arabia) with over 7000 student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chool in India with over 1000 students exclusively for students without means for quality education</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to have 25000 students over next 5 year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wo paying students, one student to be educated free   </a:t>
            </a:r>
            <a:endParaRPr b="0" lang="en-US" sz="1800" spc="-1" strike="noStrike">
              <a:solidFill>
                <a:srgbClr val="000000"/>
              </a:solidFill>
              <a:latin typeface="Verdana"/>
            </a:endParaRPr>
          </a:p>
          <a:p>
            <a:pPr marL="469800" indent="-46980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469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ip Van Winkle </a:t>
            </a:r>
            <a:endParaRPr b="0" lang="en-US" sz="3800" spc="-1" strike="noStrike">
              <a:solidFill>
                <a:srgbClr val="000000"/>
              </a:solidFill>
              <a:latin typeface="Verdana"/>
            </a:endParaRPr>
          </a:p>
        </p:txBody>
      </p:sp>
      <p:sp>
        <p:nvSpPr>
          <p:cNvPr id="105" name=""/>
          <p:cNvSpPr txBox="1"/>
          <p:nvPr/>
        </p:nvSpPr>
        <p:spPr>
          <a:xfrm>
            <a:off x="566280" y="1752480"/>
            <a:ext cx="8001000" cy="4267440"/>
          </a:xfrm>
          <a:prstGeom prst="rect">
            <a:avLst/>
          </a:prstGeom>
          <a:noFill/>
          <a:ln w="0">
            <a:noFill/>
          </a:ln>
        </p:spPr>
        <p:txBody>
          <a:bodyPr anchor="t">
            <a:normAutofit/>
          </a:bodyPr>
          <a:p>
            <a:pPr marL="469800" indent="-46980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469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rrent Environment</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balization is here to sta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o medievalism and Post Colonial Entrop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tical uncertaint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rawing &amp; Overhaul of existing Paradigms &amp; beliefs</a:t>
            </a:r>
            <a:endParaRPr b="0" lang="en-US" sz="18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Factory model of schooling </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Top Down Pedagogy</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Tyranny of Discipline</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Information Anxiety</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inear, book based</a:t>
            </a:r>
            <a:endParaRPr b="0" lang="en-US" sz="16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en not just desirable but non negotiable Global Community/Society imperative</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rtualisation, Dispersion, Disruption – Technological, Societal  </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33520"/>
            <a:ext cx="861048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ader of the past was someone who knew how to tell. </a:t>
            </a:r>
            <a:br>
              <a:rPr sz="2000"/>
            </a:br>
            <a:r>
              <a:rPr b="0" lang="en-US" sz="2000" spc="-1" strike="noStrike">
                <a:solidFill>
                  <a:srgbClr val="000000"/>
                </a:solidFill>
                <a:latin typeface="Verdana"/>
              </a:rPr>
              <a:t>The leader of the future will be someone who knows how to ask.</a:t>
            </a:r>
            <a:endParaRPr b="0" lang="en-US" sz="2000" spc="-1" strike="noStrike">
              <a:solidFill>
                <a:srgbClr val="000000"/>
              </a:solidFill>
              <a:latin typeface="Verdana"/>
            </a:endParaRPr>
          </a:p>
        </p:txBody>
      </p:sp>
      <p:sp>
        <p:nvSpPr>
          <p:cNvPr id="109" name="PlaceHolder 2"/>
          <p:cNvSpPr>
            <a:spLocks noGrp="1"/>
          </p:cNvSpPr>
          <p:nvPr>
            <p:ph type="subTitle"/>
          </p:nvPr>
        </p:nvSpPr>
        <p:spPr>
          <a:xfrm>
            <a:off x="5867280" y="2514240"/>
            <a:ext cx="2819520" cy="609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Druck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mmorrow’s Citizen…</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or to society not just famil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le to manage in complex environments with global scope and scale while still appreciative of local culture</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opolitical savv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e intensely but fairl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brace technological change, be the change agent</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ngelist, standard setter, leader by example of highest standards of global citizenship</a:t>
            </a:r>
            <a:endParaRPr b="0" lang="en-US" sz="18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ture Challenges</a:t>
            </a:r>
            <a:br>
              <a:rPr sz="3600"/>
            </a:br>
            <a:endParaRPr b="0" lang="en-US" sz="3600" spc="-1" strike="noStrike">
              <a:solidFill>
                <a:srgbClr val="000000"/>
              </a:solidFill>
              <a:latin typeface="Verdana"/>
            </a:endParaRPr>
          </a:p>
        </p:txBody>
      </p:sp>
      <p:sp>
        <p:nvSpPr>
          <p:cNvPr id="113" name="PlaceHolder 2"/>
          <p:cNvSpPr>
            <a:spLocks noGrp="1"/>
          </p:cNvSpPr>
          <p:nvPr>
            <p:ph/>
          </p:nvPr>
        </p:nvSpPr>
        <p:spPr>
          <a:xfrm>
            <a:off x="60912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ama</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k Hur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iger Wood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ndhi</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hammed Yunu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lvl="3" marL="1693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5:59:56Z</dcterms:created>
  <dc:creator>Arundhati</dc:creator>
  <dc:description/>
  <dc:language>en-US</dc:language>
  <cp:lastModifiedBy>Kirstie Hepburn</cp:lastModifiedBy>
  <dcterms:modified xsi:type="dcterms:W3CDTF">2009-10-13T21:34:01Z</dcterms:modified>
  <cp:revision>258</cp:revision>
  <dc:subject/>
  <dc:title>The Future of Executive Development</dc:title>
</cp:coreProperties>
</file>